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55C-7EB0-4760-AAE6-89688631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7A9-21CE-4C0B-9F04-F268E2E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009-0CB9-47F9-8284-C728A51D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DEC-EF45-4C35-91B4-5F2BEE9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2A78-DF74-4DC3-B477-B5E9C631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4A5B-06E0-4D7D-B12E-76FE3C66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D794-A47D-4603-81EC-974046E2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01A6-4B0F-4A51-AAF4-E146B7F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8F54-2AEB-4543-A399-B1582FC9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69DA-9628-456E-8F91-9939D651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5DE5-0A9A-46F2-8927-D086691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819-21F1-4E8D-9C63-B3BE5F79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057-2586-4DBF-911F-4FC031D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0DB6-599E-4235-AB25-4F628C5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093A-6190-4B28-B464-2406999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29A7-CCD8-4BED-90CF-46E967E1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AEC-865B-4692-83A4-B284F3DA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D050-20A1-443A-843D-CFC486FF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84A1-A7B5-432F-B6B6-379DA248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E3F7-1615-423A-B7B2-66DA265E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D229-523C-48E8-8BF9-6681CE3F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0314-394D-4384-9635-9C56C73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E94-157B-46FA-93DC-56CEDF89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FF3E-E931-4F43-ABF9-AC61C06E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2CC1-B7E5-4D1F-AAE1-546376C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D16E-A4CB-4FB9-AD6A-3FE0763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D68D-1236-49EF-BA86-12C421A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8135-7ECF-4AAD-A1A7-669F8073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958B-C7EF-4A86-97C2-22EE4FAD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B980-E40A-40B6-9E67-C7A778F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AEF-3E78-40AC-8029-D0A307FD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684-D094-4C02-8289-34B179C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E03-22C2-4B83-B142-82AB3512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6F4-26B2-4D97-BA0B-618522E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64C-24BA-492B-8455-9A7D76CF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4C5-DAB1-4D47-BB85-DD58D89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C06-70AF-4A9E-ACB7-5EC6271A50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91B-F16A-442B-ADBB-57BD928465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693-507E-4A02-BE12-1A7998AB8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5000" y="3124080"/>
            <a:ext cx="47340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857160"/>
            <a:ext cx="8686800" cy="5143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3073320" y="2824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3"/>
          <a:stretch/>
        </p:blipFill>
        <p:spPr>
          <a:xfrm>
            <a:off x="7135920" y="2824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4"/>
          <a:stretch/>
        </p:blipFill>
        <p:spPr>
          <a:xfrm>
            <a:off x="2455920" y="400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5"/>
          <a:stretch/>
        </p:blipFill>
        <p:spPr>
          <a:xfrm>
            <a:off x="3103560" y="400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199200" y="3932280"/>
            <a:ext cx="1757520" cy="41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7"/>
          <a:stretch/>
        </p:blipFill>
        <p:spPr>
          <a:xfrm>
            <a:off x="3087720" y="2824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"/>
          <p:cNvPicPr/>
          <p:nvPr/>
        </p:nvPicPr>
        <p:blipFill>
          <a:blip r:embed="rId8"/>
          <a:stretch/>
        </p:blipFill>
        <p:spPr>
          <a:xfrm>
            <a:off x="3059280" y="5583240"/>
            <a:ext cx="1441440" cy="32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9"/>
          <a:stretch/>
        </p:blipFill>
        <p:spPr>
          <a:xfrm>
            <a:off x="3967200" y="51418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10"/>
          <a:stretch/>
        </p:blipFill>
        <p:spPr>
          <a:xfrm>
            <a:off x="5148360" y="5575320"/>
            <a:ext cx="1511280" cy="32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11"/>
          <a:stretch/>
        </p:blipFill>
        <p:spPr>
          <a:xfrm>
            <a:off x="6127920" y="51436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12"/>
          <a:stretch/>
        </p:blipFill>
        <p:spPr>
          <a:xfrm>
            <a:off x="7294680" y="5589720"/>
            <a:ext cx="1511280" cy="32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13"/>
          <a:stretch/>
        </p:blipFill>
        <p:spPr>
          <a:xfrm>
            <a:off x="8288280" y="514188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47680" y="1709640"/>
            <a:ext cx="8717040" cy="3438720"/>
            <a:chOff x="247680" y="1709640"/>
            <a:chExt cx="8717040" cy="34387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47680" y="1709640"/>
              <a:ext cx="8648640" cy="34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468360" y="3532320"/>
              <a:ext cx="8496360" cy="15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14619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"/>
          <p:cNvPicPr/>
          <p:nvPr/>
        </p:nvPicPr>
        <p:blipFill>
          <a:blip r:embed="rId4"/>
          <a:stretch/>
        </p:blipFill>
        <p:spPr>
          <a:xfrm>
            <a:off x="360684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5"/>
          <a:stretch/>
        </p:blipFill>
        <p:spPr>
          <a:xfrm>
            <a:off x="57387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6"/>
          <a:stretch/>
        </p:blipFill>
        <p:spPr>
          <a:xfrm>
            <a:off x="7870680" y="2219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7"/>
          <a:stretch/>
        </p:blipFill>
        <p:spPr>
          <a:xfrm>
            <a:off x="146196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"/>
          <p:cNvPicPr/>
          <p:nvPr/>
        </p:nvPicPr>
        <p:blipFill>
          <a:blip r:embed="rId8"/>
          <a:stretch/>
        </p:blipFill>
        <p:spPr>
          <a:xfrm>
            <a:off x="359244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/>
          <p:cNvPicPr/>
          <p:nvPr/>
        </p:nvPicPr>
        <p:blipFill>
          <a:blip r:embed="rId9"/>
          <a:stretch/>
        </p:blipFill>
        <p:spPr>
          <a:xfrm>
            <a:off x="575316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10"/>
          <a:stretch/>
        </p:blipFill>
        <p:spPr>
          <a:xfrm>
            <a:off x="7870680" y="2651040"/>
            <a:ext cx="358920" cy="3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4249800"/>
            <a:ext cx="1151280" cy="4604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4221000"/>
            <a:ext cx="3313080" cy="576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63640" y="4292640"/>
            <a:ext cx="71640" cy="4316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08720" y="4249800"/>
            <a:ext cx="1511280" cy="4032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451280" y="4292640"/>
            <a:ext cx="1079640" cy="360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1800" y="1743120"/>
            <a:ext cx="8420400" cy="33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908000" y="40910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820880" y="4565520"/>
            <a:ext cx="1104840" cy="44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"/>
          <p:cNvPicPr/>
          <p:nvPr/>
        </p:nvPicPr>
        <p:blipFill>
          <a:blip r:embed="rId4"/>
          <a:stretch/>
        </p:blipFill>
        <p:spPr>
          <a:xfrm>
            <a:off x="6848640" y="41641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56280" y="4595760"/>
            <a:ext cx="17575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Windows 用户</cp:lastModifiedBy>
  <dcterms:modified xsi:type="dcterms:W3CDTF">2019-07-13T02:55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